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91CC-2EAD-4E62-A453-10CBE58703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4E7F-C74B-4E59-A4D3-BB44BC0BC5B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8a44d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войство касательной:</a:t>
            </a:r>
            <a:br>
              <a:rPr sz="2000"/>
            </a:br>
            <a:br>
              <a:rPr sz="2000"/>
            </a:b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Касательная к окружности перпендикулярна к радиусу, проведенному в точку кас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сательная к окружности с цент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точка ка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5CFB-5A75-4FCF-AEC0-70FC7856788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Признак касательной:</a:t>
            </a:r>
            <a:br>
              <a:rPr sz="2000"/>
            </a:br>
            <a:br>
              <a:rPr sz="1800"/>
            </a:b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ас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диуса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прямая, которая проходит через точку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–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1010-3093-49E7-9AA4-C11351E5FDB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Свойство касательных, </a:t>
            </a:r>
            <a:br>
              <a:rPr sz="1800"/>
            </a:br>
            <a:r>
              <a:rPr b="0" i="1" lang="ru-RU" sz="1800" spc="-1" strike="noStrike">
                <a:solidFill>
                  <a:srgbClr val="215968"/>
                </a:solidFill>
                <a:latin typeface="Calibri"/>
              </a:rPr>
              <a:t>проходящих через одну точк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▼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 свойству касат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рямоуг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=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о гипотенузе и катет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А – общ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В=ОС – ради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=АС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23FB-77CB-47F5-8C86-6F35D3AB864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ED42-ED11-4F23-9528-9A5B39EDE5B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в точ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ус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, которая не проходит через цен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от центра окружности до прямой обозначим букво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002E-69A7-4C41-A715-10160CC61DD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l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ньш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а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е общие точк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8412-EB27-4F97-9B96-9D178B70DA1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вн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у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лько одну общую точ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18A7-24BD-437C-B549-08E81D0FAE3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</a:t>
            </a:r>
            <a:r>
              <a:rPr b="0" lang="ru-RU" sz="1200" spc="-1" strike="noStrike">
                <a:solidFill>
                  <a:srgbClr val="88a4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g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ольш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диуса окружности, то прямая и окружность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ют общих точе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382D-24AD-4A38-A8A9-686024DA749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Касательная к ок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61CE-EC43-43B1-ACB4-ECC22BB07E5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ыясните взаимное расположение прямой и окружности, ес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2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,2 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7 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5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х точек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-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169D-219E-4B11-850C-AAD4493123B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Решите № 6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BC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а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ущие из прям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9DC4-E694-405C-BA3A-5874E564DA7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5CC-AB8E-462D-BA89-BCFAFA1A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536-6C31-481A-B476-DF38D564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7DF86-0E19-47EC-BF70-F1E55127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01C57-36AE-4F68-865A-CA7AE868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F8276-4F8F-4B64-B38D-226CECBF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DD6DD-D261-4B56-A87E-3B619614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56FA5-5F76-4CE6-90C6-7B9E32CC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362BD-919F-4767-8037-78634B4B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5A708-E796-43C8-BCDB-E97075FB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C3AA0-FEC2-4D70-86DA-0B99CDF3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5178A-0C51-4789-B7DD-DECD218B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14AD01-A92E-45A8-BF12-D92039FA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231-EE98-4C9D-86DE-BA5D1B4F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6C079-2E6F-49FA-86E9-D90B55FF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C0BBB1-AD6A-4D60-B74F-D121655F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8078F-5B67-43BA-A5E6-4914460F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0B50F-E8F9-420B-81B4-C7766B36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8B96B-E4F6-4AE4-97CD-B9A57045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5B5E1-940D-43C5-ABB0-807D68FD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165A00-7EF0-4284-B785-94B03471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294EE-F219-4D6F-9550-EA29D00F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975C9-3D2E-4198-9F48-C12C47D3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5E286-7964-41DF-AD12-AE6E9983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06D-C1BE-4E52-8C05-FC782251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47FB5-03D9-4067-9775-395B5953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718D0-74AE-44E4-97BA-B771CB31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9D238-9FB9-4577-9CD7-E81A6E41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887FE-53CD-40B4-A062-58660BB9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AE5E2-D9F9-4D30-9A42-09714A8E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F888F-DF0B-4F5C-B14C-569862B1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8D863-EA43-40F7-8850-5374A5FF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BE9FC-019B-4C5F-A2B3-9C233016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92F79-95B8-4E11-9825-9DB7588C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8876C-7489-499D-B4BE-533A03F1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A729-C82A-4DDA-BBD1-E80A2F0B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40BC6-2033-4741-ACD4-80C55E19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C3D84-6A06-4EE4-8CD5-F139A344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AC34B-EE18-42DC-9CBF-D9AB5710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57170-8ECE-4798-9977-8864F04A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7BBA7-1769-4689-BA5D-0204E166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0475E-C63F-4F22-9C07-6833B738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D8E0A-392D-420B-842A-1D50F223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44FA9-AD3E-45B2-B77F-B611AB84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2D8E9-927B-4BA1-90A8-CBB673B9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D52DB-D15C-427D-86E7-9440E8CF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CF3E-8B55-4E3E-8436-0F402295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34E99-6BEC-48E1-B2C5-C7EB4B60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FD0AC-6F1A-4181-B314-C1DBD33A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3C3CF-E09B-4E5A-9DD5-D0844D2D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E41B6-F1D1-40F2-ABEA-65299B9A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3C070-AEAC-4D88-AB08-144F6EA7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91C7-E68B-4B07-956F-F76F8FF8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824B-5B7E-49C9-827F-68C8E5F5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F73D-0814-4B7B-9F44-42359BFE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C8DF-F673-48EF-9737-CF5E281E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8E3E-300B-42C0-ACD4-AFE96483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4DF-017B-476E-B6D2-EAC92502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E7B0-8860-407A-BC62-27ADA7AA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E94C-B1A8-4AF6-A2F6-344B4A89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85B0-DE7C-418E-9194-668C4F79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8432-7DA9-40F3-ABFD-2FD02117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55AC-621E-4D14-850B-40FF528D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E046E-5B20-41AD-9EC3-BB6DD76F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D9C2-47BE-43C9-BD7B-C3B2F3E3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0FF00-4B41-48A5-8230-C782F007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0911-E1E0-4079-897C-A587A6CF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108B1-0CC6-4484-AF79-B766EFFD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8FD-A10D-4099-AE35-69CF4B9B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3A5A-BF8C-484D-883C-1E8519F1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A1408-395A-4B9B-9488-F2A70DB7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84D4D-F7E7-434A-AE17-6A0CD26B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53B6-E3A8-40E1-A407-ECC5879F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8BC32-1434-43C3-BD5B-25276255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499CC-53CF-4E0C-B65B-0429BECD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799F-0CBF-4A3E-8523-9042A436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EF30B-2D75-4289-9FAF-753FE21B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031B6-2FFB-4018-80C6-67CDD934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50DF6-25DC-43AE-9118-B2B6F9D3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A0C-31FB-4C58-909F-903D6C82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3B4FE-F63B-492D-A6D2-1F7A2D0E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C1232-4923-4EFE-B8F2-A9EC1F11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49318-78CA-46B8-B938-A11FB3E6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CF772-002F-4FC9-87EE-8BC449D2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E7E9D-6F2D-4A0B-BE05-A8D9F20E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EAAA2-EBFA-4660-A463-6EC043C9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30EC5-0AB8-4092-B731-BDCC509E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99E98-4B1C-488F-89E4-86C45110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6E2E2-52A5-4B7D-9BAE-8E29579E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A865D-6D12-4926-82D7-22C018D1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F28-4845-49E6-8D61-C1C25A48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4A75C-0F92-4A02-BE53-0FA53DCA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0AD31-5C61-4ECA-9295-768A44D5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9DA67-AD63-4C0B-BDFE-4FC937B4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E1005-D720-4DE6-88D2-4C9FEB0A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9317C-2342-4687-AEA3-15666FF4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15B32-57B1-4CB5-ABA0-EB032309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4FF0C-0B3D-4954-BCAE-E1BB6878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5C1CE-A9EB-4FBE-809B-B7515E3B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2475C-0E64-4884-A84A-6D203120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89922-262F-484B-973B-5F69ED8F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ACB-8399-4DEB-B479-BE5FF4FE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96FF3-C58B-4C57-BCD9-629D4DAF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51C6A-DE89-419F-BBEA-8B70081B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9E266-5BB6-497D-A2ED-56922897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E54F7-4212-4460-9DC8-31B4B365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72E87-52EC-4D00-AB80-4008306F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2731B-5D25-45C6-B648-12079AFF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52DD3-4DBD-465D-B470-BF212C3D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69D7D-693C-40A0-9CF5-F4C245B6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7E6F2-F818-47C4-B4EE-D83C2A7A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057DE-9E9B-4621-B4FE-F934B582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B0E-D15F-41B9-9C8A-DF85CA8A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8344E-175F-4F47-9F35-770FF009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85FAF-A66C-4586-A18C-EB82A53A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3E652-D4B4-4B3C-A4E0-BDF781EF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808BF-18CB-463F-B7A0-4D3B413D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8E1FC-E7B0-4494-8925-41F3012C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CAF8A-4D36-47AB-A032-CB1CCB54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2E93F-4AE1-454F-9D59-99BA34A1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363B8-8F8F-4FE4-A4CC-04B65E9C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74521-9535-45E7-899F-39B6B377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4A3C4-1960-498F-BF08-DF4DD1CB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9719-29F7-4D21-8380-5AFBCBCC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6BDAA-42BD-4B29-829C-CE10D6A8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3F955-8460-4DD8-94B6-BE5998AE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141A8-9713-4B01-80D1-74E19DCF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08902-1E5F-4030-BB78-22859B0F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325BF-6C72-4FED-B4F4-C6CCE943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7421E-D16B-4D63-8E90-4F5E7BF6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21CC0-83EC-4B0F-B97A-F17E455E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879E6-3478-49E1-ABC0-EB6BCFC0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C01B3-C5B4-4717-9AB8-38D50CBF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A5D42-CE6C-454E-9785-9A2B15A1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94A-4186-40F2-A060-D9EC9A58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8A07D-0C6F-4E26-8061-8C7713E7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5A657-66FD-4595-84A4-9B108610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90CB1-4D48-4A58-A1F0-595948D0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E6E5F-51A8-43B6-AFC2-E4FE09E1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B394B-0F3E-43D3-8964-FE6EB073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E9BB3-81CB-4800-9BB3-7D9D30B9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33059-0737-4A86-AEBF-355C4002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491DC-50B5-4932-A306-0FD5F2C9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372F9-1CE6-4237-9A33-ED0B30AE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33DF4-5B5A-4C9D-91B7-F540581E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00DC-C826-43A1-B9C7-E12EEDEF465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BA44-BA20-4349-8B14-7AB858CEEA8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D6C1-F502-4F7A-946B-43CD9954AB1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A83E-036F-4D35-81B2-AACC81FAFBC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C529-EAC0-4CB5-B31E-6F94401CFD2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0829-28FC-41AE-8503-5D990650896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8AA2-31B6-40E6-9FBA-5CD4AB058A5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93A9-170F-4C2D-95AD-79719DF0042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212C-2F03-4A8A-8312-D5B221350CA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99E0-4A2C-4A9B-B906-FE9B6BBA383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5514-56F8-44DA-9294-EC90E839DD5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7589-D5AC-487E-9B10-8C928F126E0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700360" y="4652640"/>
            <a:ext cx="5975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Взаимное расположение прямой и окружности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806436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Georgia"/>
              </a:rPr>
              <a:t>С</a:t>
            </a:r>
            <a:r>
              <a:rPr b="1" lang="ru-RU" sz="4400" spc="-1" strike="noStrike">
                <a:solidFill>
                  <a:srgbClr val="435e40"/>
                </a:solidFill>
                <a:latin typeface="Georgia"/>
              </a:rPr>
              <a:t>войство касательной:</a:t>
            </a:r>
            <a:br>
              <a:rPr sz="4400"/>
            </a:br>
            <a:br>
              <a:rPr sz="4400"/>
            </a:br>
            <a:r>
              <a:rPr b="0" i="1" lang="ru-RU" sz="2800" spc="-1" strike="noStrike">
                <a:solidFill>
                  <a:srgbClr val="435e40"/>
                </a:solidFill>
                <a:latin typeface="Georgia"/>
              </a:rPr>
              <a:t>Касательная к окружности перпендикулярна к радиусу, проведенному в точку касания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8960" y="2997000"/>
            <a:ext cx="375444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касательная к окружности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точка кас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14"/>
              <p:cNvSpPr txBox="1"/>
              <p:nvPr/>
            </p:nvSpPr>
            <p:spPr>
              <a:xfrm>
                <a:off x="1351080" y="5373720"/>
                <a:ext cx="2842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8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30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35e40"/>
                </a:solidFill>
                <a:latin typeface="Georgia"/>
              </a:rPr>
              <a:t>Признак касательной:</a:t>
            </a:r>
            <a:br>
              <a:rPr sz="4300"/>
            </a:br>
            <a:br>
              <a:rPr sz="4000"/>
            </a:br>
            <a:r>
              <a:rPr b="0" lang="ru-RU" sz="2900" spc="-1" strike="noStrike">
                <a:solidFill>
                  <a:srgbClr val="435e40"/>
                </a:solidFill>
                <a:latin typeface="Georgia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2900" spc="-1" strike="noStrike">
                <a:solidFill>
                  <a:srgbClr val="435e40"/>
                </a:solidFill>
                <a:latin typeface="Georgia"/>
              </a:rPr>
              <a:t>асательной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50920" y="3357720"/>
            <a:ext cx="475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прямая, которая проходит через точку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m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– касатель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1476360" y="4869000"/>
                <a:ext cx="1893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2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7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35e40"/>
                </a:solidFill>
                <a:latin typeface="Georgia"/>
              </a:rPr>
              <a:t>Свойство касательных, </a:t>
            </a:r>
            <a:br>
              <a:rPr sz="3600"/>
            </a:br>
            <a:r>
              <a:rPr b="0" i="1" lang="ru-RU" sz="3600" spc="-1" strike="noStrike">
                <a:solidFill>
                  <a:srgbClr val="435e40"/>
                </a:solidFill>
                <a:latin typeface="Georgia"/>
              </a:rPr>
              <a:t>проходящих через одну точку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21"/>
              <p:cNvSpPr txBox="1"/>
              <p:nvPr/>
            </p:nvSpPr>
            <p:spPr>
              <a:xfrm>
                <a:off x="5292720" y="2133720"/>
                <a:ext cx="2287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787640" y="1700280"/>
            <a:ext cx="41050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▼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По свойству касательной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,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рямоугольны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=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о гипотенузе и катету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А – общая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В=ОС – радиус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=АС и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▲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539640" y="4292640"/>
            <a:ext cx="1511280" cy="1441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7"/>
          <p:cNvSpPr/>
          <p:nvPr/>
        </p:nvSpPr>
        <p:spPr>
          <a:xfrm>
            <a:off x="1258920" y="5013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8"/>
          <p:cNvSpPr/>
          <p:nvPr/>
        </p:nvSpPr>
        <p:spPr>
          <a:xfrm flipH="1" flipV="1">
            <a:off x="610920" y="4076640"/>
            <a:ext cx="33130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9"/>
          <p:cNvSpPr/>
          <p:nvPr/>
        </p:nvSpPr>
        <p:spPr>
          <a:xfrm flipH="1">
            <a:off x="684360" y="5013360"/>
            <a:ext cx="3240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"/>
          <p:cNvSpPr/>
          <p:nvPr/>
        </p:nvSpPr>
        <p:spPr>
          <a:xfrm flipV="1">
            <a:off x="1258920" y="429264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1"/>
          <p:cNvSpPr/>
          <p:nvPr/>
        </p:nvSpPr>
        <p:spPr>
          <a:xfrm>
            <a:off x="1258920" y="501336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"/>
          <p:cNvSpPr/>
          <p:nvPr/>
        </p:nvSpPr>
        <p:spPr>
          <a:xfrm>
            <a:off x="834480" y="4672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1276920" y="3808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1203840" y="575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651840" y="452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1403280" y="4365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1404720" y="537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2771640" y="4724280"/>
            <a:ext cx="287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0"/>
          <p:cNvSpPr/>
          <p:nvPr/>
        </p:nvSpPr>
        <p:spPr>
          <a:xfrm>
            <a:off x="179280" y="1557360"/>
            <a:ext cx="46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резки касательных 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кружности, проведенн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 одной точки, равны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ляют равные уг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прямой, проходящей чере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у точку и центр окружн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Object 23"/>
              <p:cNvSpPr txBox="1"/>
              <p:nvPr/>
            </p:nvSpPr>
            <p:spPr>
              <a:xfrm>
                <a:off x="5508720" y="4653000"/>
                <a:ext cx="537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25"/>
              <p:cNvSpPr txBox="1"/>
              <p:nvPr/>
            </p:nvSpPr>
            <p:spPr>
              <a:xfrm>
                <a:off x="6300720" y="5157720"/>
                <a:ext cx="165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5582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Georgia"/>
              </a:rPr>
              <a:t>Взаимное расположение прямой и окружности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3635280" y="3500280"/>
            <a:ext cx="2737080" cy="266544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4842000" y="42084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8"/>
          <p:cNvSpPr/>
          <p:nvPr/>
        </p:nvSpPr>
        <p:spPr>
          <a:xfrm>
            <a:off x="5003640" y="479736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0"/>
          <p:cNvSpPr/>
          <p:nvPr/>
        </p:nvSpPr>
        <p:spPr>
          <a:xfrm flipH="1">
            <a:off x="4500360" y="3573360"/>
            <a:ext cx="934920" cy="25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1"/>
          <p:cNvSpPr/>
          <p:nvPr/>
        </p:nvSpPr>
        <p:spPr>
          <a:xfrm flipH="1">
            <a:off x="3634920" y="3500280"/>
            <a:ext cx="136836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4932360" y="4797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329640" y="42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4914000" y="301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5418720" y="308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4358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6372360" y="458136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521280" y="3879720"/>
            <a:ext cx="223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диу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мет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Дано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9280" y="1557360"/>
            <a:ext cx="4392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в точке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радиуса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, которая не проходит через центр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сстояние от центра окружности до прямой обозначим буквой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3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4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5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7290000" y="3375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9"/>
          <p:cNvSpPr/>
          <p:nvPr/>
        </p:nvSpPr>
        <p:spPr>
          <a:xfrm>
            <a:off x="6426720" y="337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0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680" y="1484280"/>
            <a:ext cx="40384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l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меньше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а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ве общие точки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Oval 5"/>
          <p:cNvSpPr/>
          <p:nvPr/>
        </p:nvSpPr>
        <p:spPr>
          <a:xfrm>
            <a:off x="5400720" y="2084400"/>
            <a:ext cx="2952720" cy="288288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6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6156360" y="306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l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2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3"/>
          <p:cNvSpPr/>
          <p:nvPr/>
        </p:nvSpPr>
        <p:spPr>
          <a:xfrm>
            <a:off x="5867280" y="3068640"/>
            <a:ext cx="93672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55087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7648560" y="2565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6"/>
          <p:cNvSpPr/>
          <p:nvPr/>
        </p:nvSpPr>
        <p:spPr>
          <a:xfrm>
            <a:off x="179280" y="55832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ая АВ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кущ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отношению к окружн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вно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у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только одну общую точку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7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8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64056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g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ольше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диуса окружности, то прямая и окружност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не имеют общих точек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4932360" y="2276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156360" y="306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g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6877080" y="2276640"/>
            <a:ext cx="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6732720" y="227664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2"/>
          <p:cNvSpPr/>
          <p:nvPr/>
        </p:nvSpPr>
        <p:spPr>
          <a:xfrm flipH="1">
            <a:off x="5579640" y="4149720"/>
            <a:ext cx="129708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5921640" y="4095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10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5e40"/>
                </a:solidFill>
                <a:latin typeface="Georgia"/>
              </a:rPr>
              <a:t>Касательная к окружности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4932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Определение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П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6640560" y="22050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49849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640" y="96840"/>
            <a:ext cx="878508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ыясните взаимное расположение прямой и окружности, есл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948960" y="2924280"/>
            <a:ext cx="375444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15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11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5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2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,2 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7 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7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,5 д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 м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858920" y="2923920"/>
            <a:ext cx="37544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щих точек не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- касательн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4716360" y="2708280"/>
            <a:ext cx="0" cy="34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35e40"/>
                </a:solidFill>
                <a:latin typeface="Georgia"/>
              </a:rPr>
              <a:t>Решите № 633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ано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BC-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вадра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B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диуса 5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йти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екущие из прямых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AB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C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АС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1187280" y="465300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83280" y="3068640"/>
            <a:ext cx="2305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8"/>
          <p:cNvSpPr/>
          <p:nvPr/>
        </p:nvSpPr>
        <p:spPr>
          <a:xfrm>
            <a:off x="4932360" y="1989000"/>
            <a:ext cx="2232000" cy="22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3"/>
          <p:cNvSpPr/>
          <p:nvPr/>
        </p:nvSpPr>
        <p:spPr>
          <a:xfrm flipH="1">
            <a:off x="6083280" y="306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4"/>
          <p:cNvSpPr/>
          <p:nvPr/>
        </p:nvSpPr>
        <p:spPr>
          <a:xfrm flipV="1">
            <a:off x="6083280" y="3068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579600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817236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8101080" y="546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9"/>
          <p:cNvSpPr/>
          <p:nvPr/>
        </p:nvSpPr>
        <p:spPr>
          <a:xfrm>
            <a:off x="58672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0"/>
          <p:cNvSpPr/>
          <p:nvPr/>
        </p:nvSpPr>
        <p:spPr>
          <a:xfrm>
            <a:off x="4211640" y="1413000"/>
            <a:ext cx="3673440" cy="34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2"/>
          <p:cNvSpPr/>
          <p:nvPr/>
        </p:nvSpPr>
        <p:spPr>
          <a:xfrm flipV="1">
            <a:off x="6084720" y="306828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3"/>
          <p:cNvSpPr/>
          <p:nvPr/>
        </p:nvSpPr>
        <p:spPr>
          <a:xfrm flipH="1">
            <a:off x="6084360" y="3068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4"/>
          <p:cNvSpPr/>
          <p:nvPr/>
        </p:nvSpPr>
        <p:spPr>
          <a:xfrm>
            <a:off x="5730840" y="265572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8:08:31Z</dcterms:created>
  <dc:creator>Ладанова И.В</dc:creator>
  <dc:description/>
  <dc:language>en-US</dc:language>
  <cp:lastModifiedBy>LEGION</cp:lastModifiedBy>
  <dcterms:modified xsi:type="dcterms:W3CDTF">2015-01-26T12:35:08Z</dcterms:modified>
  <cp:revision>19</cp:revision>
  <dc:subject/>
  <dc:title>Взаимное расположение прямой и окружности</dc:title>
</cp:coreProperties>
</file>